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B58C2-1D98-46B7-9414-E738DB79C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F723B-474E-470B-8484-949DC6CA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1698F-46EA-4A78-83EB-9B4F12BC1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E6028-BDD0-4FCF-B112-F6932539A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D50F8-00BF-4F6E-9845-7C3A8DC95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8B957-1FA8-42AF-B40B-777F84947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895F7-10A3-421D-BC41-29E08A019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32BA4-B7C1-410A-A669-A89B28D06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2EC52-15D8-4B34-AB2D-7DA3738FF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9BA81-7CAB-4C61-A272-19545E565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C6C47-E13A-494B-A05E-FA847B8FD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7118A-42D4-49AF-AACC-8F7D7ACD8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4166A-3966-4D2D-A097-ECCE364A2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FEF30-219A-4324-B4EF-8ACBB283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54E96-74B3-459A-B223-BD9959A5E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CE7B4-2555-4528-873C-2184290C6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CFAAB-4B59-4108-833B-E38C3877E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C584B-6201-45B6-B0D7-EA751C1A17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A116C-F862-47AE-B01B-225B07F4A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5377B-D375-4ECA-888E-DAB1FA546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259D9-0AA0-49DD-9898-A3604250E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32523-5C8C-4D39-AE5D-49CF3D28F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52EF-2DEE-4E8A-A090-C4FCAC0C0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173FE-6583-416F-8630-37824AB4B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7E168-956A-4690-BAD6-1B63BA96F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33BD9-65E4-49EF-A2C5-A0B849AB4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AE450-1C6F-4830-B1DC-11527538F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0B4D0-4062-4FC2-9F91-A3EA6CC80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1927F6-CC3B-48E0-BB6F-AE80342B1F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82B730-1000-449A-8555-21A96EA35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CA5418-DD59-48C5-ABA5-D62EEF5891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14453-EAF4-4C8A-92B1-74E601592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282CD-C815-48FF-9EB8-A4BD622CF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07E7-2CA8-4FE1-83EC-2D0546831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9A438-A1C4-433D-88EF-52041D311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8718A-9145-4A0C-8DC5-BAE1BE129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041365-C592-42FE-A7E9-CFAECAAEA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E82E7-8F35-4A4C-8427-3D818B50C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38D0D-6FBC-4C73-8C8C-4F2828A45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6A15D-8CA7-4A47-A0B4-1E221CB8F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46DA1-79A4-4CAB-B8D8-8449B0346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92C43D-7BB3-4876-8AAC-D69CBE19C9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64295-6FCB-48FD-9863-5FCDC95E51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7435B0-09A4-4B7F-95D4-05CD08B414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7726E-9667-4341-93E7-1D05D0D56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F559F-8514-4CA3-BE30-67A8CA071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8C5CD-4DBF-486A-81DB-DB5467B3E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E7F73-C3EE-4959-83FD-C43AD9C02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680C91-63AB-419F-8C8F-42C809028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783599-4BAA-4106-8569-C1E828D0C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66B64-13BC-40A4-B00A-870CC68C3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DE2E8-2BE4-401E-959E-76AF02B4B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1D056-AC9E-422A-B086-E14570F69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1DF08-8CA9-4A05-BE5C-70B28C06D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77D7C1-4EA2-4AE3-95DD-7F106AA519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CB270-BB1E-4C94-BD74-200479A55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9E54BA-FFCA-4691-ACA4-415CA78784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E55F36-9501-4FB5-8D06-52E7217C37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F6B9E1-CC5B-4462-9997-0B695C468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EE223-6440-4EAA-8DA1-97F91EB013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341C9-EFB6-4BB5-8ADA-F2D6A542D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97266-2C9D-45F1-8174-60AD66097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C6B54F-41B6-4115-A638-42BD25181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C8E96-D307-4422-99D7-2E8470292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EF426-42FB-4BB7-9720-9AD1261C4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BE504-D758-47D2-AC54-2E397426B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5A55D-2EE1-4D9F-928F-028B84B98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FD4F1-1350-4C76-9F41-5E4D60AA0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235A2-1D1A-4337-91A9-163FA977E4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F6F046-0949-48C6-ACEB-33352CC453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DEDCF-85F0-4343-9657-FA041D7EC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250C-49E3-4E9F-981B-988C9B91C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E224-7818-4E7D-97FB-DB68718A08F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BB03-A0C3-4393-AA65-B9CDE8B49AE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7"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2" name="PlaceHolder 5"/>
          <p:cNvSpPr>
            <a:spLocks noGrp="1"/>
          </p:cNvSpPr>
          <p:nvPr>
            <p:ph type="sldNum" idx="9"/>
          </p:nvPr>
        </p:nvSpPr>
        <p:spPr>
          <a:xfrm>
            <a:off x="8263080" y="6180120"/>
            <a:ext cx="531360" cy="4086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7337-454D-4B7E-96B2-1F7CC863A31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30"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C9DC-3679-4819-AAFE-882FAED7F7A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3"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CBA4-8D16-4090-9606-891D5E6B50E7}"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219" name="PlaceHolder 3"/>
          <p:cNvSpPr>
            <a:spLocks noGrp="1"/>
          </p:cNvSpPr>
          <p:nvPr>
            <p:ph type="dt" idx="16"/>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type="sldNum" idx="18"/>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AE8D-E343-49D0-8853-5DFD23A9032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rot="19140000">
            <a:off x="245880" y="1626480"/>
            <a:ext cx="68040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Lessons from the geese</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  </a:t>
            </a:r>
            <a:endParaRPr b="0" lang="en-US" sz="2800" spc="-1" strike="noStrike">
              <a:solidFill>
                <a:srgbClr val="000000"/>
              </a:solidFill>
              <a:latin typeface="Franklin Gothic Medium"/>
            </a:endParaRPr>
          </a:p>
        </p:txBody>
      </p:sp>
      <p:sp>
        <p:nvSpPr>
          <p:cNvPr id="260" name="PlaceHolder 2"/>
          <p:cNvSpPr>
            <a:spLocks noGrp="1"/>
          </p:cNvSpPr>
          <p:nvPr>
            <p:ph/>
          </p:nvPr>
        </p:nvSpPr>
        <p:spPr>
          <a:xfrm>
            <a:off x="822240" y="109692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61" name=""/>
          <p:cNvSpPr txBox="1"/>
          <p:nvPr/>
        </p:nvSpPr>
        <p:spPr>
          <a:xfrm>
            <a:off x="819000" y="170172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As each goose flaps its wings, it creates an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uplift</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for the birds that follow.   By flying in a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V</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formation, the whole flock has 71% greater flying range than if each bird flew alone.</a:t>
            </a:r>
            <a:endParaRPr b="1" lang="en-US" sz="2000" spc="-1" strike="noStrike">
              <a:solidFill>
                <a:srgbClr val="000000"/>
              </a:solidFill>
              <a:latin typeface="Franklin Gothic Book"/>
            </a:endParaRPr>
          </a:p>
        </p:txBody>
      </p:sp>
      <p:sp>
        <p:nvSpPr>
          <p:cNvPr id="262" name="PlaceHolder 3"/>
          <p:cNvSpPr>
            <a:spLocks noGrp="1"/>
          </p:cNvSpPr>
          <p:nvPr>
            <p:ph/>
          </p:nvPr>
        </p:nvSpPr>
        <p:spPr>
          <a:xfrm>
            <a:off x="4700520" y="109692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63" name=""/>
          <p:cNvSpPr txBox="1"/>
          <p:nvPr/>
        </p:nvSpPr>
        <p:spPr>
          <a:xfrm>
            <a:off x="4700520" y="170172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ople who share a common direction and sense of community can get where they are going quicker and easier, because they are traveling on the thrust of each other.</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64" name="TextBox 6"/>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65"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67" name="PlaceHolder 2"/>
          <p:cNvSpPr>
            <a:spLocks noGrp="1"/>
          </p:cNvSpPr>
          <p:nvPr>
            <p:ph/>
          </p:nvPr>
        </p:nvSpPr>
        <p:spPr>
          <a:xfrm>
            <a:off x="82224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68" name=""/>
          <p:cNvSpPr txBox="1"/>
          <p:nvPr/>
        </p:nvSpPr>
        <p:spPr>
          <a:xfrm>
            <a:off x="819000" y="151920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When a goose falls out of formation, it suddenly feels the drag and resistance of flying alone.   It quickly moves back into formation to take advantage of the lifting power of the bird immediately in front of it.</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69" name="PlaceHolder 3"/>
          <p:cNvSpPr>
            <a:spLocks noGrp="1"/>
          </p:cNvSpPr>
          <p:nvPr>
            <p:ph/>
          </p:nvPr>
        </p:nvSpPr>
        <p:spPr>
          <a:xfrm>
            <a:off x="470052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70" name=""/>
          <p:cNvSpPr txBox="1"/>
          <p:nvPr/>
        </p:nvSpPr>
        <p:spPr>
          <a:xfrm>
            <a:off x="4700520" y="151920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we have as much sense as a goose, we stay in formation with those headed where we want to go.   We are willing to accept their help and give our help to others.</a:t>
            </a:r>
            <a:endParaRPr b="1" lang="en-US" sz="2000" spc="-1" strike="noStrike">
              <a:solidFill>
                <a:srgbClr val="000000"/>
              </a:solidFill>
              <a:latin typeface="Franklin Gothic Book"/>
            </a:endParaRPr>
          </a:p>
        </p:txBody>
      </p:sp>
      <p:sp>
        <p:nvSpPr>
          <p:cNvPr id="271" name="TextBox 6"/>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72"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74" name="PlaceHolder 2"/>
          <p:cNvSpPr>
            <a:spLocks noGrp="1"/>
          </p:cNvSpPr>
          <p:nvPr>
            <p:ph/>
          </p:nvPr>
        </p:nvSpPr>
        <p:spPr>
          <a:xfrm>
            <a:off x="82224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75" name=""/>
          <p:cNvSpPr txBox="1"/>
          <p:nvPr/>
        </p:nvSpPr>
        <p:spPr>
          <a:xfrm>
            <a:off x="819000" y="151920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When the lead bird tires, it rotates back into the formation to take advantage of the lifting power of the bird immediately in front of it.</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76" name="PlaceHolder 3"/>
          <p:cNvSpPr>
            <a:spLocks noGrp="1"/>
          </p:cNvSpPr>
          <p:nvPr>
            <p:ph/>
          </p:nvPr>
        </p:nvSpPr>
        <p:spPr>
          <a:xfrm>
            <a:off x="470052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77" name=""/>
          <p:cNvSpPr txBox="1"/>
          <p:nvPr/>
        </p:nvSpPr>
        <p:spPr>
          <a:xfrm>
            <a:off x="4700520" y="1519200"/>
            <a:ext cx="3200400" cy="310824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t pays to take turns doing the hard tasks and sharing leadership.   As with geese, people are interdependent on each others</a:t>
            </a:r>
            <a:r>
              <a:rPr b="1" lang="ja-JP" sz="2000" spc="-1" strike="noStrike">
                <a:solidFill>
                  <a:srgbClr val="000000"/>
                </a:solidFill>
                <a:latin typeface="Franklin Gothic Book"/>
              </a:rPr>
              <a:t>’</a:t>
            </a:r>
            <a:r>
              <a:rPr b="1" lang="en-US" sz="2000" spc="-1" strike="noStrike">
                <a:solidFill>
                  <a:srgbClr val="000000"/>
                </a:solidFill>
                <a:latin typeface="Franklin Gothic Book"/>
              </a:rPr>
              <a:t> skills, capabilities, and unique arrangement of gifts, talents, or resources.</a:t>
            </a:r>
            <a:endParaRPr b="1" lang="en-US" sz="2000" spc="-1" strike="noStrike">
              <a:solidFill>
                <a:srgbClr val="000000"/>
              </a:solidFill>
              <a:latin typeface="Franklin Gothic Book"/>
            </a:endParaRPr>
          </a:p>
        </p:txBody>
      </p:sp>
      <p:sp>
        <p:nvSpPr>
          <p:cNvPr id="278" name="TextBox 2"/>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79"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81" name="PlaceHolder 2"/>
          <p:cNvSpPr>
            <a:spLocks noGrp="1"/>
          </p:cNvSpPr>
          <p:nvPr>
            <p:ph/>
          </p:nvPr>
        </p:nvSpPr>
        <p:spPr>
          <a:xfrm>
            <a:off x="822240" y="761760"/>
            <a:ext cx="3200400" cy="54900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82" name=""/>
          <p:cNvSpPr txBox="1"/>
          <p:nvPr/>
        </p:nvSpPr>
        <p:spPr>
          <a:xfrm>
            <a:off x="819000" y="136692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The geese flying in formation honk to encourage those up front to keep up their speed.</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83" name="PlaceHolder 3"/>
          <p:cNvSpPr>
            <a:spLocks noGrp="1"/>
          </p:cNvSpPr>
          <p:nvPr>
            <p:ph/>
          </p:nvPr>
        </p:nvSpPr>
        <p:spPr>
          <a:xfrm>
            <a:off x="4700520" y="761760"/>
            <a:ext cx="3200400" cy="54900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84" name=""/>
          <p:cNvSpPr txBox="1"/>
          <p:nvPr/>
        </p:nvSpPr>
        <p:spPr>
          <a:xfrm>
            <a:off x="4700520" y="1366920"/>
            <a:ext cx="3757680" cy="310824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 need to make sure our honking is encouraging.   In groups where there is encouragement, the production is much greater.   The power of encouragement (to stand by one</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s heart or core values and to encourage the heart and core values of others) is the quality of honking we seek.</a:t>
            </a:r>
            <a:endParaRPr b="1" lang="en-US" sz="2000" spc="-1" strike="noStrike">
              <a:solidFill>
                <a:srgbClr val="000000"/>
              </a:solidFill>
              <a:latin typeface="Franklin Gothic Book"/>
            </a:endParaRPr>
          </a:p>
        </p:txBody>
      </p:sp>
      <p:sp>
        <p:nvSpPr>
          <p:cNvPr id="285" name="TextBox 2"/>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86"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88" name="PlaceHolder 2"/>
          <p:cNvSpPr>
            <a:spLocks noGrp="1"/>
          </p:cNvSpPr>
          <p:nvPr>
            <p:ph/>
          </p:nvPr>
        </p:nvSpPr>
        <p:spPr>
          <a:xfrm>
            <a:off x="822240" y="60948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89" name=""/>
          <p:cNvSpPr txBox="1"/>
          <p:nvPr/>
        </p:nvSpPr>
        <p:spPr>
          <a:xfrm>
            <a:off x="819000" y="1213920"/>
            <a:ext cx="3200400" cy="310860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When a goose gets sick, wounded, or shot down, two geese drop out of formation and follow it down to help and protect it.   They stay with it until it dies or is able to fly again.   Then, they launch out with another formation to catch up with the flock.</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90" name="PlaceHolder 3"/>
          <p:cNvSpPr>
            <a:spLocks noGrp="1"/>
          </p:cNvSpPr>
          <p:nvPr>
            <p:ph/>
          </p:nvPr>
        </p:nvSpPr>
        <p:spPr>
          <a:xfrm>
            <a:off x="4700520" y="60948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91" name=""/>
          <p:cNvSpPr txBox="1"/>
          <p:nvPr/>
        </p:nvSpPr>
        <p:spPr>
          <a:xfrm>
            <a:off x="4700520" y="1213920"/>
            <a:ext cx="3200400" cy="3108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we have as much sense as geese, we will stand by each other in difficult times as well as when we</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re strong.</a:t>
            </a:r>
            <a:endParaRPr b="1" lang="en-US" sz="2000" spc="-1" strike="noStrike">
              <a:solidFill>
                <a:srgbClr val="000000"/>
              </a:solidFill>
              <a:latin typeface="Franklin Gothic Book"/>
            </a:endParaRPr>
          </a:p>
        </p:txBody>
      </p:sp>
      <p:sp>
        <p:nvSpPr>
          <p:cNvPr id="292" name="TextBox 2"/>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93"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14:20:56Z</dcterms:created>
  <dc:creator>Jane Cook</dc:creator>
  <dc:description/>
  <dc:language>en-US</dc:language>
  <cp:lastModifiedBy>Jane Cook</cp:lastModifiedBy>
  <cp:lastPrinted>2012-10-23T14:50:55Z</cp:lastPrinted>
  <dcterms:modified xsi:type="dcterms:W3CDTF">2013-08-22T21:26:06Z</dcterms:modified>
  <cp:revision>56</cp:revision>
  <dc:subject/>
  <dc:title>Data Teams  at Windham Middle School</dc:title>
</cp:coreProperties>
</file>